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whoosh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C591-4787-48EC-A8D8-AC30783CF1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CB7-43C2-4700-9DB5-09CF19A3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C92-B7FE-47E7-94F7-4D32D115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94E-F54D-4C0A-AF1A-9DB5351C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0DF-91C5-4895-A282-64C65762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B07F-8711-40D2-90B2-FB805AB5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700C-77D5-44FA-A9A3-AAB16508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3F94-0155-4281-8FBD-BFDA667E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CBF3-7D0D-4DDF-BE55-E1E3FACE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E36B-D689-49E6-BF3C-BA2833E4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A7ED-0BEF-4735-BC53-5B1C895F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5AFB-21AB-46D3-9DE5-1581F544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780-D917-4C12-B09E-0C91A893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AC95-87CE-4534-9F17-E105DEAA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BF71-7829-4AD0-9613-1DE7B8F7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15B4-BF56-4881-9BCF-E900E5E2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28DC-7055-4DF0-A1BD-3AF1F97F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5458-76A8-4F66-B975-8000E2FC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5E1-A448-4020-82DF-6BC2076B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8EE-439A-4FE9-9FDE-FA217D3A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AD4-63EC-48BC-AC88-DDA05A77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2C8-69FC-4C43-B099-CA73222A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F16-5BD6-421E-AA22-CE5E3EF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B00-CF98-41ED-87A2-E66311E7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6F4-1A9E-41F0-9267-01F65F8A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776A-0896-4289-BBA7-7CEB1C96F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439-DEAB-4517-BA8A-9F3B091B99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actions and Equations La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s A, B, &amp;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pring 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eth Shadri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C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mistry 10-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j0254466"/>
          <p:cNvPicPr/>
          <p:nvPr/>
        </p:nvPicPr>
        <p:blipFill>
          <a:blip r:embed="rId1"/>
          <a:stretch/>
        </p:blipFill>
        <p:spPr>
          <a:xfrm>
            <a:off x="685800" y="2630520"/>
            <a:ext cx="380988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 the word equations by predicting the products, use the information you gathered by observation to help in th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to include the state of the substance for the reactants and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equations for th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may go finish Part D of the lab instructions.  You will need the solubility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AG00567_"/>
          <p:cNvPicPr/>
          <p:nvPr/>
        </p:nvPicPr>
        <p:blipFill>
          <a:blip r:embed="rId3"/>
          <a:stretch/>
        </p:blipFill>
        <p:spPr>
          <a:xfrm>
            <a:off x="4687920" y="1981080"/>
            <a:ext cx="37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serve 7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dentify and write formulas for the reactants and products of tho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alance the equations for th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Mg ribbon is ash-lik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Litmus test indicates a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Solid turns white, steam comes from t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Solid turns blue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1 Fe nai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in Cu a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olution ha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d from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 color to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ce157"/>
                </a:solidFill>
                <a:latin typeface="Comic Sans MS"/>
              </a:rPr>
              <a:t>greenis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MVC-002S"/>
          <p:cNvPicPr/>
          <p:nvPr/>
        </p:nvPicPr>
        <p:blipFill>
          <a:blip r:embed="rId1"/>
          <a:srcRect l="22004" t="0" r="10004" b="0"/>
          <a:stretch/>
        </p:blipFill>
        <p:spPr>
          <a:xfrm>
            <a:off x="5410080" y="19051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2 Cu meta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with Ag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the soluti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beginning to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on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ightly </a:t>
            </a:r>
            <a:r>
              <a:rPr b="0" lang="en-US" sz="2800" spc="-1" strike="noStrike">
                <a:solidFill>
                  <a:srgbClr val="2663a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MVC-003S"/>
          <p:cNvPicPr/>
          <p:nvPr/>
        </p:nvPicPr>
        <p:blipFill>
          <a:blip r:embed="rId2"/>
          <a:srcRect l="18000" t="0" r="12000" b="9094"/>
          <a:stretch/>
        </p:blipFill>
        <p:spPr>
          <a:xfrm>
            <a:off x="4648320" y="20574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MVC-006S"/>
          <p:cNvPicPr/>
          <p:nvPr/>
        </p:nvPicPr>
        <p:blipFill>
          <a:blip r:embed="rId1"/>
          <a:srcRect l="39024" t="8906" r="14752" b="0"/>
          <a:stretch/>
        </p:blipFill>
        <p:spPr>
          <a:xfrm>
            <a:off x="5014800" y="1905120"/>
            <a:ext cx="3227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1: Magnesium plus oxygen yield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2: A1 product plus water yields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1: Copper (II) Sulfate Pentahydrate is heated to yield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2 Anhydrous Copper (II) Sulfate plus water yields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1  Iron plus Copper (II) Sulf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2  Copper plus Silver Nitr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3  Magnesium plus Hydrochloric Acid yields…  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5:17:32Z</dcterms:created>
  <dc:creator>Graves County High School</dc:creator>
  <dc:description/>
  <dc:language>en-US</dc:language>
  <cp:lastModifiedBy>RomaK</cp:lastModifiedBy>
  <dcterms:modified xsi:type="dcterms:W3CDTF">2015-09-02T06:01:30Z</dcterms:modified>
  <cp:revision>11</cp:revision>
  <dc:subject/>
  <dc:title>Reactions and Equations Spring 2003</dc:title>
</cp:coreProperties>
</file>